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7.jpeg" ContentType="image/jpeg"/>
  <Override PartName="/ppt/media/image15.gif" ContentType="image/gif"/>
  <Override PartName="/ppt/media/image6.png" ContentType="image/png"/>
  <Override PartName="/ppt/media/image11.gif" ContentType="image/gif"/>
  <Override PartName="/ppt/media/image5.jpeg" ContentType="image/jpeg"/>
  <Override PartName="/ppt/media/image24.gif" ContentType="image/gif"/>
  <Override PartName="/ppt/media/image22.gif" ContentType="image/gif"/>
  <Override PartName="/ppt/media/image21.gif" ContentType="image/gif"/>
  <Override PartName="/ppt/media/image19.jpeg" ContentType="image/jpeg"/>
  <Override PartName="/ppt/media/image4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17.gif" ContentType="image/gif"/>
  <Override PartName="/ppt/media/image23.jpeg" ContentType="image/jpeg"/>
  <Override PartName="/ppt/media/image2.jpeg" ContentType="image/jpeg"/>
  <Override PartName="/ppt/media/image16.gif" ContentType="image/gif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9E7-2DB8-492F-98D5-3A3F9A83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49D-4D5A-4277-A527-FF5C2744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7CB-CDA5-4BCF-A964-75C7B6DB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93E-F4F8-4C85-AF89-3174279B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8780-428B-416B-898C-A10800B0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53B7-BA2B-48D7-9269-2AE9614F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9BCB-AAE3-46BC-934B-40BB6AA7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A4CE-31E5-487C-BE98-6606AEC2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6733-DC1A-43D2-AD1E-F4CD7303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713E-8007-409B-9BD2-BEC358D1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553A-E59B-4467-88FB-A63198AE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E95-7DE8-4530-9331-59BD3C93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57DC-E5E3-44FB-9085-63184A56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D236-7CF0-4D83-A26A-5A5EAEE5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B1EA-3516-4DD4-9429-94C0F8E2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FE59-9C87-483E-B90B-4DC6FA70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203E-3617-44BB-9CAF-A8DD578D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7EF-62B0-4B9F-B54C-F0B9F6F8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898-20FA-454A-8FF7-AA1018CC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8CA-259D-4C0E-A651-257502A2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A25-5390-445F-85DC-373EBF2D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B2B-FB0B-4097-B953-B6A793E0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6D7-956C-40BF-AEC1-4716AF1A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0157-2F13-466F-AA4F-8F6975E0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A87A-B3BC-4D03-8F33-34C4DF185EEE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D5AB-27A2-4B4B-864A-4C75F8E3CBB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4190760" cy="2598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8320" y="1371600"/>
            <a:ext cx="3962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每组派两位同学参加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一位同学拿针，一位同学拿线，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秒钟内将线穿过针孔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要求：开始前两个人都必须将手放下，时间到时拿针的同学必须放手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其他同学监督，用数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停”来帮助计时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-47880" y="2286000"/>
            <a:ext cx="243828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>
                    <a:alpha val="78000"/>
                  </a:srgbClr>
                </a:solidFill>
                <a:latin typeface="宋体"/>
              </a:rPr>
              <a:t>穿针引线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>
                  <a:alpha val="78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合理归因，有效决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23888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不一味埋怨外部环境，要多从自己内部找原因，激发自我责任感和信心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要尽量找自己可以改变的原因，不要过多归因于不可改变或太难改变的原因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培养自己积极的思考模式，多从积极的角度来思考分析问题，相信自己！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合理归因的目的不是为失败找借口，而是寻找努力的方向，不是一味自责，而是相信自己可以完善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《将军的占卜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6933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将军——率军打仗之前——占卜——抽签 “神将帮助你们赢得战争的胜利”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庆功会上，将士们说：“如果没有神，我们将不能取得胜利，让我们为神而干杯。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将军说：“勇敢的将士们，你们才是赢得这次胜利的决定力量，没有神帮助我们，我们完全靠自己，让我们为自己干杯吧！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72200" y="4705200"/>
            <a:ext cx="19810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故事启迪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2300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内因是事物变化的根据，它规定着事物发展的方向，所以是事物发展的根本原因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外因是事物变化的条件，它能够加速或延缓甚至暂时改变事物发展的进程，但它必须通过内因起作用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事物成败的关键是内因，不能一味地强调外因，要合理利用外因，让它成为我们前进的动力而不是阻力，永远不要忽视自我的力量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58000" y="51814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962000" y="5181480"/>
            <a:ext cx="667080" cy="66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202360" y="51814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3546360" y="518148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Arial"/>
                <a:ea typeface="黑体"/>
              </a:rPr>
              <a:t>回    顾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华文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请用一句话来概括这节课的收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6835680" cy="424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55640" y="155736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心灵寄语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7086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合理的归因是对过去事情的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Arial"/>
              </a:rPr>
              <a:t>全面总结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更是下一步行动的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Arial"/>
              </a:rPr>
              <a:t>好的开端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合理归因的目的是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Arial"/>
              </a:rPr>
              <a:t>明确努力方向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去取得更大的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Arial"/>
              </a:rPr>
              <a:t>进步和成功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每次归因之前，应当有这样一个信念——命运，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Arial"/>
              </a:rPr>
              <a:t>只能掌握在自己的手中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629400" y="4648320"/>
            <a:ext cx="19512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华文彩云"/>
                <a:ea typeface="黑体"/>
              </a:rPr>
              <a:t>我的未来不是梦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8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你是不是像我在太阳下低头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流着汗水默默辛苦的工作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你是不是像我就算受了冷漠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也不放弃自己想要的生活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你是不是像我整天忙着追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追求一种意想不到的温柔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你是不是像我曾经茫然失措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一次一次徘徊在十字街头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7979a5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6000" y="259920"/>
            <a:ext cx="4186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因为我不在乎 别人怎么说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从来没有忘记我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自己的承诺 对爱的执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知道我的未来不是梦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认真的过每一分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的未来不是梦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的心跟着希望在动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的未来不是梦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认真的过每一分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的未来不是梦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的心跟着希望在动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跟着希望在动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04920" y="20574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49829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2320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—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隶书"/>
              </a:rPr>
              <a:t>合理归因，有效决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95280" y="1371600"/>
            <a:ext cx="67820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为什么？怎么办？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43000" y="4191120"/>
            <a:ext cx="678168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50920" y="1700280"/>
            <a:ext cx="3462120" cy="3115440"/>
            <a:chOff x="250920" y="1700280"/>
            <a:chExt cx="3462120" cy="311544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250920" y="1700280"/>
              <a:ext cx="3024720" cy="26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rot="936000">
              <a:off x="1712880" y="3482640"/>
              <a:ext cx="1886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cc00cc"/>
                  </a:solidFill>
                  <a:latin typeface="Times New Roman"/>
                  <a:ea typeface="幼圆"/>
                </a:rPr>
                <a:t>归因</a:t>
              </a:r>
              <a:endParaRPr b="0" lang="en-US" sz="6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114800" y="1066680"/>
            <a:ext cx="446400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琥珀"/>
              </a:rPr>
              <a:t>归因就是寻找行为结果的原因，即你对学习、工作成败的原因作出判断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152280"/>
            <a:ext cx="8915040" cy="6705360"/>
            <a:chOff x="228600" y="152280"/>
            <a:chExt cx="8915040" cy="670536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228600" y="152280"/>
              <a:ext cx="1315440" cy="13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6071760" y="2801160"/>
              <a:ext cx="3071880" cy="405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3692160" y="609480"/>
            <a:ext cx="11865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小调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752480"/>
            <a:ext cx="6019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宋体-18030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-18030"/>
                <a:ea typeface="宋体-18030"/>
              </a:rPr>
              <a:t>选择符合自己实际情况的项目，若符合计</a:t>
            </a:r>
            <a:r>
              <a:rPr b="1" lang="zh-CN" sz="2800" spc="-1" strike="noStrike">
                <a:solidFill>
                  <a:srgbClr val="0000ff"/>
                </a:solidFill>
                <a:latin typeface="宋体-18030"/>
                <a:ea typeface="宋体-18030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-18030"/>
                <a:ea typeface="宋体-18030"/>
              </a:rPr>
              <a:t>分，如果你认为还有其他原因，请写在问卷下面的“其他”栏里面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-18030"/>
                <a:ea typeface="宋体-18030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-18030"/>
                <a:ea typeface="宋体-18030"/>
              </a:rPr>
              <a:t>在你所选的内容中再选出五个最主要的，将他们依照重要的次序填写（写题号即可）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2388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5139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你的归因特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单数项目共得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_______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双数项目共得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_______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最重要的五个选项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____________________________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如果你更多地选择单数题号的选项，你可能是一个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外部控制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人，也就是说你通常习惯把自己成功和失败的原因归于外部条件和环境；如果你选择的大多是双数题号的选项，那说明你善于从自己内部寻找原因，你是一个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内部控制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324480" y="533520"/>
            <a:ext cx="243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31520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心理学家维纳认为，我们一般把成败的原因归结为以下几个方面：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能力、努力、任务难度、运气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等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他把人们归纳的这些原因进行了分类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从它来源于内部和外部将它分为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内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外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从它能不能被我们个人意愿所控制将它分为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可控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不可控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根据它的稳定性分为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稳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不稳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1371600" cy="1320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705720" y="685800"/>
            <a:ext cx="137160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457200" y="1143000"/>
          <a:ext cx="8229600" cy="4829040"/>
        </p:xfrm>
        <a:graphic>
          <a:graphicData uri="http://schemas.openxmlformats.org/drawingml/2006/table">
            <a:tbl>
              <a:tblPr/>
              <a:tblGrid>
                <a:gridCol w="1754280"/>
                <a:gridCol w="998280"/>
                <a:gridCol w="1017720"/>
                <a:gridCol w="1173240"/>
                <a:gridCol w="1173240"/>
                <a:gridCol w="1017360"/>
                <a:gridCol w="1095480"/>
              </a:tblGrid>
              <a:tr h="5983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归因类别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 gridSpan="6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成败归因向度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因素来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可控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稳定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内</a:t>
                      </a:r>
                      <a:endParaRPr b="0" lang="en-US" sz="2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外</a:t>
                      </a:r>
                      <a:endParaRPr b="0" lang="en-US" sz="2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可控</a:t>
                      </a:r>
                      <a:endParaRPr b="0" lang="en-US" sz="2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不可控</a:t>
                      </a:r>
                      <a:endParaRPr b="0" lang="en-US" sz="2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稳定</a:t>
                      </a:r>
                      <a:endParaRPr b="0" lang="en-US" sz="2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不稳定</a:t>
                      </a:r>
                      <a:endParaRPr b="0" lang="en-US" sz="2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能力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努力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任务难度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运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其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2467440" y="29718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7840" y="29718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7800" y="35053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86800" y="29718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3581280"/>
            <a:ext cx="64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505320"/>
            <a:ext cx="7920000" cy="79200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5200" y="380880"/>
            <a:ext cx="26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归因类别分析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67440" y="35053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24840" y="35053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8920" y="35053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57800" y="41911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67840" y="41911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48920" y="41911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7800" y="47242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67840" y="47242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4724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归因理论观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89872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个人将成功归因于能力和努力等内部因素时，他会感到骄傲、满意、信心十足，动力增强；而将成功归因于任务容易和运气好等外部原因时，产生的满意感则较少，下次就不一定努力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81120" y="15235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如果一个人将失败归因于缺乏能力或努力，则会产生羞愧和内疚，激发内在的动力；而将失败归因于任务太难或运气不好时，产生的羞愧则较少，也不会再去努力争取成功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4952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Arial"/>
              </a:rPr>
              <a:t>归因于努力比归因于能力，无论对成功或失败均会产生更强烈的情绪体验。将失败归因于内部、稳定、不可控（能力）时是最大的障碍。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8880" y="3429000"/>
            <a:ext cx="790560" cy="1523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929040" y="1676520"/>
            <a:ext cx="812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讨论与分享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6230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钟时间回想一下自己印象非常深刻的一件成功或者失败的事情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与小组成员一起分享交流一下当时的情景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析当时自己对成功或者失败是如何归因的？对自己的行为结果产生了怎样的影响？你觉得当时怎样归因会更有利于以后的发展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小组内分析总结合理归因的方法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每小组推荐一名同学分享本组成果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2438640" cy="1643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920" y="144792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ahoma"/>
              </a:rPr>
              <a:t>好东西要一起分享哦！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1337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3048120"/>
            <a:ext cx="457200" cy="457200"/>
          </a:xfrm>
          <a:custGeom>
            <a:avLst/>
            <a:gdLst>
              <a:gd name="textAreaLeft" fmla="*/ 180360 w 457200"/>
              <a:gd name="textAreaRight" fmla="*/ 276840 w 457200"/>
              <a:gd name="textAreaTop" fmla="*/ 180360 h 457200"/>
              <a:gd name="textAreaBottom" fmla="*/ 2768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1" y="8531"/>
                </a:lnTo>
                <a:lnTo>
                  <a:pt x="10800" y="0"/>
                </a:lnTo>
                <a:lnTo>
                  <a:pt x="13069" y="8531"/>
                </a:lnTo>
                <a:lnTo>
                  <a:pt x="21600" y="10800"/>
                </a:lnTo>
                <a:lnTo>
                  <a:pt x="13069" y="13069"/>
                </a:lnTo>
                <a:lnTo>
                  <a:pt x="10800" y="21600"/>
                </a:lnTo>
                <a:lnTo>
                  <a:pt x="8531" y="13069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3657600"/>
            <a:ext cx="381240" cy="380880"/>
          </a:xfrm>
          <a:custGeom>
            <a:avLst/>
            <a:gdLst>
              <a:gd name="textAreaLeft" fmla="*/ 89640 w 381240"/>
              <a:gd name="textAreaRight" fmla="*/ 291600 w 381240"/>
              <a:gd name="textAreaTop" fmla="*/ 44640 h 380880"/>
              <a:gd name="textAreaBottom" fmla="*/ 239040 h 380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4952880"/>
            <a:ext cx="381240" cy="381240"/>
          </a:xfrm>
          <a:prstGeom prst="star5">
            <a:avLst/>
          </a:prstGeom>
          <a:solidFill>
            <a:srgbClr val="ff66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562720"/>
            <a:ext cx="304920" cy="304560"/>
          </a:xfrm>
          <a:prstGeom prst="donut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01992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286056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35:44Z</dcterms:modified>
  <cp:revision>25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